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55F0-DCBB-41F7-8B7C-7205F60C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9685-98A2-4EF9-BB38-90E59511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BACB4-B7D6-4322-8E58-4AA1181A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22490-0FAE-43B3-AA57-8985877A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BECAF-3122-4EEA-A81F-6179A795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C6538-EC08-42BA-B4D2-134F0260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4376B-FCF8-4925-907E-F4142F36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D8A42-F909-4E82-8E79-1B041340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FF91C-315D-44ED-A9FD-C8802F16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74C72-2F24-4907-8BD6-2DD4523B5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D593A-E511-423B-BADC-4A448E9D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5D2F5-D2F4-4E83-8104-D3A7DEB6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9C30-3171-4EE5-B3FB-787B3E3F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5446E-89B5-4CAC-B215-59E230F5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9E045-674C-488A-8AEB-70C8311D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5AD90-2FE2-4594-A121-3D04FAF4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CC60B-B444-4EA7-87C6-6458A648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15B19-A65A-4EE1-9461-CF585912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5FBE4-88DF-4F39-9579-5BE711C6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035B3-01B3-4C2A-94BD-B9B26C1C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163D1-0D7B-495B-A16C-97CCEE71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60026-6122-4A00-A8DF-E9AB7B6F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DA17F-76EB-4A2A-A036-B2B67868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12FB-E10D-49CC-B4FF-DFF72D0C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8F25F-CFF2-497C-A418-40148934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C3424-873B-4BFB-AE96-440898B3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517CB-4E3B-45A2-90BE-9D4F4AE6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D24EA-3FD6-44D8-A6EA-1C22D246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D94E8-6C0C-4785-A084-2B6DFEBF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53F8D-4C87-49E5-9A7F-E97FE5D5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783AB-2632-460D-B1F0-D98EE961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CF4CF-62EF-4DF7-829B-BAA74081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B2AE7-37DF-467C-9927-181674F7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41A6B-9E52-4DD8-8DCD-42DC4C91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8E54-A4E0-4083-B437-CBAC1BB2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D08B4-5A2A-4042-A005-DB5A620D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49BF1-ADA5-4EB6-BB3F-BC5823EB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B4E55-D71A-49C0-A55E-088F2474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DCAA7-FC4D-4FB4-B86E-60146985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E0C52C-D75F-4752-A251-68771C3A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BA096-0CE8-4261-BDEA-062BA8CF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27BF4-7118-42A9-B526-A978604E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0EF7C-0E8E-4633-A1D3-F67F2BE2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42C41-7CFF-4E93-AA37-6CB5FA91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F8CB3-495E-491B-BF37-31584E63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AC8C-4A1B-4ECF-AA36-C56DB9AB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4A9AA-514D-43E2-94B0-BB8A09B3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570F7-0BFF-49D6-83B7-AEFC12BA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2A1E1-6993-4CC3-BC98-7EFA704D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C20A4-3512-424D-A3DA-91CDACED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9ACA0-4DCC-402B-85C4-9C38ECB5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431A4B-E1FE-4916-83BC-9EDB782B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AB17C-CB31-45CC-A13C-9975F711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4E1DA9-AE63-4E9B-A135-EFE1FAF4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57BDD9-8186-4E77-ADF2-6BDC8C1A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CC2242-D0DC-4C88-8020-8E8E6C92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46F6-35F1-46B4-8953-B28EA595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8F7A09-B9AE-4574-9C2A-7F4F533B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9A4DA6-BA62-42D2-8D7E-BFEEEF42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04BAA6-0684-452B-9763-A2B9B7DA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0E0820-A274-4781-89D6-3B6972C0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212EB1-E89A-4A53-84A6-9309FDAB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38C4AE-D0A4-4737-9A49-5F2C309E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E51E47-2693-4905-B34A-2AE958FB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AC266C-7CBC-4EF1-989B-63757A84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23BEEB-74B7-48F5-8940-A5B2BF3C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22B305-3A8E-4CF4-A943-3531E5F2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4F0E-B805-4D43-99EE-123D4D96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4E8370-3F8E-48AD-A249-FCA4B476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1081C6-7C75-4F5A-8963-491A0543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52ECE1-D623-4692-920D-0B775FB9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8B3CBA-DA9B-4C7E-B7D2-8B44EAB6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A085CA-4DB3-49F8-8E64-AD53EFD6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05274C-D0CB-4480-ADC2-0502B2F7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68124B-7449-4D1E-8A06-1833E315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3FE1F8-3057-4572-B16F-2D0A9E4C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0A4327-9835-400B-BB95-6AB2ACFC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914900-A6F4-4636-B6D1-14BA305E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A375-05BD-420F-A4BA-CBB3195A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A22B41-2AC9-4468-A2D7-CA43CE09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66B691-4CA4-4421-A7CD-1C7A82B6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4402C3-310F-41BE-8018-689252C6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5B0808-F52B-4131-BAE1-BE7A711B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A3658D-AC8B-4D9A-8DDA-9BF4A138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1B40B3-9539-40AE-9F6B-765A4630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158D7D-2BE2-4BC4-A700-9BDFC4A4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653501-903C-4252-8DF8-FBBAC3FB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788779-9D72-499B-B9F3-1D547599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928CB4-D933-4ADA-9F23-2C8EB4EF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FD76-A33F-49D8-AEB5-626EB8DB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6A9678-2494-4080-80FC-06071537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3F79ED-7248-4AD2-83C6-97410CB8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F7114D-AAB0-474B-BD83-BA7123AF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2D28AE-3E10-42CE-9F37-F2DD851F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EE4097-DC74-443E-8543-FD2AE5DD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43B680-7577-4DF3-8C0B-D9A5D829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8BAE24-9CB2-4E49-B616-6E534F1E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13E3B0-18F2-48B6-B666-6115A3A8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3EFBB1-0E52-4887-8D71-C1B8C07F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D0DD7A-5615-4E47-B538-EDA1D0CA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44F1-8CA6-4DE4-8F66-142BA378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E6E4E2-E95A-4ADE-AB43-52EE9916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6EF3B8-6254-4619-8E13-BBFDA243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5B14DF-8F65-47A5-87AD-F4DF6D8C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CA9858-093F-4CD8-8824-2F558EC6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404970-86AC-45C4-915A-6C4615CF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A7DB0E-9196-4C9F-B891-997C1BCF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5F5A7F-1CE8-4D85-A774-4292D7F2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7AEEF7-EC25-427F-B9FC-853D1D1E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459AF1-1ADB-4CCB-BE3B-860F6C2B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86C8D8-0C7A-49E7-97E5-4E67E24B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ABB0-67ED-4371-B2B2-7D37BF27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40F3-3E7D-4246-8904-E7B97A2F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0BBA0D-0B54-4228-940F-A8C9B2E7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E4ADDB-740B-4123-B59E-2275A803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3796FF-F52E-496A-825E-66D6879B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F36516-197B-40B5-B655-AFFBC907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1DAC69-8CEC-4A25-B2AB-6EE9DFEE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ADEE40-07C8-41E7-8753-5366843E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E1617F-AF19-4DEE-B983-4F29B525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C5FF49-684E-4E59-9125-5FD9B76F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26A79C-3656-480D-9792-AC7EA21B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50276F-7E57-41CF-8702-AB411255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2B87-5EEE-4637-B8F1-18ABC8D0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70E342-66D2-4CD3-9B09-6B92FA52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4CC5C4-E7CA-48D8-86C0-923EE7CC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0CD6A7-C859-4963-8534-ECA396C9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269B6C-3403-41A9-BE3C-5ED4DE5C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9155DF-4740-46EF-B6F0-B629A8D3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D84FEA-2119-40C1-9CE6-E5021744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4311F2-4EBB-4393-AC38-90083628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53D520-2691-412D-9CE2-46EB5C90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5E7888-2B1E-4FA6-98F7-D997E907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7C04CF-7C4F-4CF7-BF37-91180BFB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E0E2-A7BA-4A4E-806A-21EDCC7B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5A1AB2-AA0A-4D58-8F49-6D0D3365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1AB80E-AE4C-4F53-B1A8-85D93FDE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6F8EDC-195A-4B5F-A19E-B24B65FA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FA662E-2D5D-4725-B370-DF738388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17179C-E2B3-4DE2-A578-440A86D3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9C7D79-EAB1-47EF-89E1-D4517EA4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0088C5-D033-4247-BF10-19CE5669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01F240-84A0-4929-9084-4684544D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000258-AFBE-4D3A-914B-5EAA8357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6D88B6-4502-42CB-B70F-633FB261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EB24-4AED-448A-AF8E-28129DDC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217224-3713-4F3E-8C0D-2B4B0003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7A126B-54E9-410E-B888-D109F3FB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029C43-405D-4A64-ADAF-92593C89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55069C-21BA-45E0-9AB5-A722108A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37499F-FD28-421F-862F-08F5876E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3FA546-B3C7-4263-8189-DA7ED22C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AB193F-BADF-4E7F-9450-46808DC9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993178-DF42-4D0D-AA69-4AD8511D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08F464-FFF1-4452-BC57-0D2709B8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1F65E7-BB56-4B7D-BE09-944B897E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24B0-AAB0-4148-B3D9-0EDB73F6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BAAF1A-FBF0-48BB-93E3-246F6152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2F4A37-8A65-4304-B951-BC6FED22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87D7C0-AC04-484F-A1A6-83AF0E90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0D7A30-84E2-4F12-B67F-0DF10C87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5187A8-B46F-499E-A66E-4F3227AB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4FEE3A-4C0D-4B15-801E-E78D6426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C02365-7772-4D12-B962-419AE6CE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9DBF2C-EE4A-4307-B3BE-6782ADFD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A20837-06D3-461B-9AC8-09FF46FE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686365-10A6-4E2A-93F1-A17BFBA5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F9ADD-756B-4E0E-AE8A-266D1E4E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C03680-F99A-4E03-A49B-14D124E6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A1150B-D6C4-4030-93AE-69545E57A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90D83E-8807-4E2A-880D-E481A426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EB5C2-3E9A-4ADC-A8E2-2DB8393A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0FCBC-D184-4306-9BCF-9BD57381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23602-59CD-42EA-89A1-1633B449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4E868-CC55-4A4E-9C56-9020C654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5B63-DBC7-4CDD-8E45-4A980A6B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A3DFC-19C1-4C53-A2EE-4DA2FF49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3A42B-255F-4AF5-B7D6-69742F61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5BA9F-52C4-4918-AB02-04CA0B0B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3E72B-4ECC-4329-A029-18537893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47B4B-8E38-4F29-9407-B5442F38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98352-D54D-4801-BECC-B3130CB3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BA8C7-07BA-4BC8-AEF5-48B0AAD7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0CCC4-9751-4AF3-BBF3-F379D86C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7B2CA-915C-452C-BA40-EBCC5FBF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8F32E-E142-4D69-B1EB-7053ED25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F1A1-FCDA-41E6-8D2D-D22CA173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6BD42-9414-4603-B16F-59BA4FE9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8BFBC-FAAC-46C1-87DC-4111D247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6EFAF-C825-4E3F-94E2-3D80B541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8BDB7-5CC9-4729-BD42-6E88D22D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F3052-652E-4CF8-A475-A04A85BE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9EFE4-1486-4229-94B9-4932CFDA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15647-20C0-463C-97DF-9C8E7EB8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656F4-4A40-423E-A958-F0019D64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F5CC7-8188-45F1-AECF-5BE5F654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FC596-51DA-4B5E-95AF-214EC203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1CEE-2A38-47CB-8A1B-385EFE75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B0FC3-166D-4738-AF13-21AA5AFB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F2459-6F13-48D6-BA23-9C99D2FE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FBFA8-D7A5-4652-AFF1-51B83CFC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DD6F9-E4DB-4076-BC76-5806A993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C9A63-5003-4C28-B66A-283B506A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902BE-E874-4C4E-B417-0979ADFA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661B6-9B8B-4DB2-954C-E7B11E41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161D9-F1CD-4E33-B8F4-F95C9205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7D97E-FEBC-46F4-8354-15EBA769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C102E-3E92-436D-B693-AA874850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F03C-0CB6-486A-AA0E-9940D1DE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3781F-42D1-4D36-BC03-94F06229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AC9DA-5806-4C07-9BD6-EE85F4FD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FEFD3-9C8F-47A2-9B12-F9274087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03AFC-024D-4681-BF98-37BB3112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622E5-49D8-4A6D-806C-CC2D35D6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BB437-7ED9-4704-8295-33EDE962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C6F99-415C-4776-BB94-32FFBA4D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B6C1A-2B89-431B-BAD0-93B77567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93CFF-2DBD-419D-92E2-973B3607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6393C-8EC2-4B95-B5EA-E8A267B9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4999-EB49-4868-B4BA-59787C36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1E5C0-B919-453D-ABB2-6EF27A5B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D8667-33AC-4772-9A8C-05418CE9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1A54B-DC21-43FC-BBB0-B09A0F15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92A46-025F-410F-90A2-8DFDB059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B043D-185D-410B-B5C0-A19F57D3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151F5-188E-4C91-98CB-E678802B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5E152-0F72-410E-B5FA-3B7D537A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4F57C-F7B2-47A7-8918-DC84A209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4DB66-74F6-48B6-ACB8-197028AF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928F1-EC6E-4423-8835-451FDEDD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CC36-0828-4D27-89AC-D7243F39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64EF5-8B2A-4569-A1DF-CC4FFB77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D34C0-1A4F-4E3B-9BA5-C34D45F3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22353-8BED-4342-B84D-B79F0384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2BC2D-39CA-4716-BD60-1A27B7685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500A3-222B-4075-BDA7-51FD239F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8917D-295C-4FD5-A44B-663C72F8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DAF77-BA71-483F-A3C3-4240FE5C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32007-CADA-46D1-BB09-22C51FE2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67259-3F1A-4E51-B8FE-5CD3227C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1918C-D3E7-4BC0-8AF5-7FECE93F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A848-919E-4D95-B3EA-2C059659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00F06-4822-4E4B-81EC-027369A1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403E0-2BE9-4E51-90F6-91D89452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247A8-F876-48D0-A357-26E3526C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D9C1B-DF08-4B1F-A004-7817704A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C7D9D-CF25-4628-9A69-2C1CD4AC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29AB0-1561-4C2E-9127-CE83572C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49FC3-0807-4967-BB03-AB16FB9E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EA2C1-6F4C-48EC-9AFE-8392960E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88508-2BE9-42CD-BB72-26441364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90443-E8D2-4629-8E57-3FF23F75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B533-A720-465A-A18B-14FA697518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BD54-40D5-4ED7-B27C-107F012C60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BEBA-4BA3-4238-B70B-67B3D24C93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B8F8-3D1E-47D3-B09F-A09A705A35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968B-CCE1-4B3D-91FB-17D36A68D5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8CE0-0333-4AAF-8CB9-358F35D69F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CB92-5124-4012-ACCB-396127C6A5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2F10-E57D-4FA7-A083-11C3E05CB1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3CBF-6901-4909-AA7B-CAB46880E9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F910-2AB7-4F97-90EA-C5DCBF674F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383A-CCEA-4FB5-BFBF-6360B30339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AA9A-A259-4D7E-98C6-E7970B1F4A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7B26-DAAF-41B0-9EB8-D0DE6DF09D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B321-4766-449B-AB45-AECE2F4C12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7D02-A121-4CDE-8DAE-4758A92B71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631B-2FC5-4B3A-B97D-4C44C9DB3F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0676-DD91-49E7-908A-9CB35C43CE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822B-177A-41D2-8885-A9FFD3D5CD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FE05-19E0-43D3-9366-58EE939F98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8320-7D05-4936-BB1E-8AF59E9316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407D-BEDE-418B-89ED-BDB4589CF0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2FE9-4965-4933-A430-8344AA1F7F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D72F-D089-4E57-BA90-F4D053DE49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B176-760C-4304-972E-D4F2AE370E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9486-62AF-46B3-962A-B3AF52D42F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D78E-2304-44D2-A21B-8001A2BA6C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5107-D4C1-4E6A-989D-130D1E13E6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BCC8-8C4D-44C4-9065-9B4E3A1966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19E0-1FA3-4A5C-BDA4-D0966F0E88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9BEA-1243-47A3-8C02-4AA96F847A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FCE9-FFDC-46C5-9D0C-0AD831465F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9261-38B1-4DE7-94AE-9D23603120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0CBC-4DBB-4387-B88E-030112BC9C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2DCF-4FCF-4EF8-BF40-FB10321F35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FB2D-CA15-4E7C-A7A8-B80C74A710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E046-9B56-4FC4-957E-4C4624260E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9394-936D-442A-933C-FF8D55F1EC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F0C5-5864-4E16-98AF-C3809C1662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6308-5434-4E99-A2D9-4DECF96402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E832-A2D0-477B-8879-79300692CB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87296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图片 69633" descr=""/>
          <p:cNvPicPr/>
          <p:nvPr/>
        </p:nvPicPr>
        <p:blipFill>
          <a:blip r:embed="rId1"/>
          <a:stretch/>
        </p:blipFill>
        <p:spPr>
          <a:xfrm>
            <a:off x="490680" y="919080"/>
            <a:ext cx="8162640" cy="5534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3097080" cy="7923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3"/>
          <a:stretch/>
        </p:blipFill>
        <p:spPr>
          <a:xfrm>
            <a:off x="3492360" y="1125360"/>
            <a:ext cx="2448000" cy="4762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4"/>
          <a:stretch/>
        </p:blipFill>
        <p:spPr>
          <a:xfrm>
            <a:off x="539640" y="1916280"/>
            <a:ext cx="7128000" cy="4759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5"/>
          <a:stretch/>
        </p:blipFill>
        <p:spPr>
          <a:xfrm>
            <a:off x="468360" y="2492280"/>
            <a:ext cx="8280360" cy="4762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6"/>
          <a:stretch/>
        </p:blipFill>
        <p:spPr>
          <a:xfrm>
            <a:off x="324000" y="3068640"/>
            <a:ext cx="8280360" cy="4762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7"/>
          <a:stretch/>
        </p:blipFill>
        <p:spPr>
          <a:xfrm>
            <a:off x="395280" y="3645000"/>
            <a:ext cx="8280360" cy="9363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8"/>
          <a:stretch/>
        </p:blipFill>
        <p:spPr>
          <a:xfrm>
            <a:off x="324000" y="4653000"/>
            <a:ext cx="8280360" cy="9367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9"/>
          <a:stretch/>
        </p:blipFill>
        <p:spPr>
          <a:xfrm>
            <a:off x="395280" y="5661000"/>
            <a:ext cx="8280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233280" y="1371600"/>
            <a:ext cx="8677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59410" descr=""/>
          <p:cNvPicPr/>
          <p:nvPr/>
        </p:nvPicPr>
        <p:blipFill>
          <a:blip r:embed="rId1"/>
          <a:stretch/>
        </p:blipFill>
        <p:spPr>
          <a:xfrm>
            <a:off x="457200" y="1595520"/>
            <a:ext cx="8229600" cy="36669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280360" cy="4762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179280" y="2205000"/>
            <a:ext cx="8280360" cy="1295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468360" y="3573360"/>
            <a:ext cx="8280360" cy="476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324000" y="4221000"/>
            <a:ext cx="8280360" cy="476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6"/>
          <a:stretch/>
        </p:blipFill>
        <p:spPr>
          <a:xfrm>
            <a:off x="395280" y="4797360"/>
            <a:ext cx="8280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58373" descr=""/>
          <p:cNvPicPr/>
          <p:nvPr/>
        </p:nvPicPr>
        <p:blipFill>
          <a:blip r:embed="rId1"/>
          <a:stretch/>
        </p:blipFill>
        <p:spPr>
          <a:xfrm>
            <a:off x="252360" y="115920"/>
            <a:ext cx="7848720" cy="6594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395280" y="2147760"/>
            <a:ext cx="7993080" cy="476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250920" y="2708280"/>
            <a:ext cx="7993080" cy="476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179280" y="3284640"/>
            <a:ext cx="7993080" cy="7207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324000" y="4076640"/>
            <a:ext cx="7993080" cy="4762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6"/>
          <a:stretch/>
        </p:blipFill>
        <p:spPr>
          <a:xfrm>
            <a:off x="324000" y="4653000"/>
            <a:ext cx="7993080" cy="4762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7"/>
          <a:stretch/>
        </p:blipFill>
        <p:spPr>
          <a:xfrm>
            <a:off x="324000" y="5157720"/>
            <a:ext cx="7993080" cy="476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8"/>
          <a:stretch/>
        </p:blipFill>
        <p:spPr>
          <a:xfrm>
            <a:off x="468360" y="5734080"/>
            <a:ext cx="7993080" cy="476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9"/>
          <a:stretch/>
        </p:blipFill>
        <p:spPr>
          <a:xfrm>
            <a:off x="395280" y="6251400"/>
            <a:ext cx="79930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57352" descr=""/>
          <p:cNvPicPr/>
          <p:nvPr/>
        </p:nvPicPr>
        <p:blipFill>
          <a:blip r:embed="rId1"/>
          <a:stretch/>
        </p:blipFill>
        <p:spPr>
          <a:xfrm>
            <a:off x="233280" y="824040"/>
            <a:ext cx="86774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56324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182080" cy="102888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56325" descr=""/>
          <p:cNvPicPr/>
          <p:nvPr/>
        </p:nvPicPr>
        <p:blipFill>
          <a:blip r:embed="rId2"/>
          <a:stretch/>
        </p:blipFill>
        <p:spPr>
          <a:xfrm>
            <a:off x="482760" y="2852640"/>
            <a:ext cx="7419960" cy="25434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468360" y="1628640"/>
            <a:ext cx="8351640" cy="476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4"/>
          <a:stretch/>
        </p:blipFill>
        <p:spPr>
          <a:xfrm>
            <a:off x="324000" y="2205000"/>
            <a:ext cx="8351640" cy="476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5"/>
          <a:stretch/>
        </p:blipFill>
        <p:spPr>
          <a:xfrm>
            <a:off x="179280" y="2852640"/>
            <a:ext cx="8352000" cy="7923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6"/>
          <a:stretch/>
        </p:blipFill>
        <p:spPr>
          <a:xfrm>
            <a:off x="250920" y="3789360"/>
            <a:ext cx="8351640" cy="476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7"/>
          <a:stretch/>
        </p:blipFill>
        <p:spPr>
          <a:xfrm>
            <a:off x="250920" y="4437000"/>
            <a:ext cx="8351640" cy="476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8"/>
          <a:stretch/>
        </p:blipFill>
        <p:spPr>
          <a:xfrm>
            <a:off x="179280" y="4941720"/>
            <a:ext cx="8352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55300" descr=""/>
          <p:cNvPicPr/>
          <p:nvPr/>
        </p:nvPicPr>
        <p:blipFill>
          <a:blip r:embed="rId1"/>
          <a:stretch/>
        </p:blipFill>
        <p:spPr>
          <a:xfrm>
            <a:off x="676440" y="1790640"/>
            <a:ext cx="7791120" cy="32767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7921440" cy="476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468360" y="2492280"/>
            <a:ext cx="7921440" cy="7923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4"/>
          <a:stretch/>
        </p:blipFill>
        <p:spPr>
          <a:xfrm>
            <a:off x="468360" y="3357720"/>
            <a:ext cx="7921440" cy="4759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5"/>
          <a:stretch/>
        </p:blipFill>
        <p:spPr>
          <a:xfrm>
            <a:off x="539640" y="3933720"/>
            <a:ext cx="7921800" cy="476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6"/>
          <a:stretch/>
        </p:blipFill>
        <p:spPr>
          <a:xfrm>
            <a:off x="611280" y="4508640"/>
            <a:ext cx="79214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54276" descr=""/>
          <p:cNvPicPr/>
          <p:nvPr/>
        </p:nvPicPr>
        <p:blipFill>
          <a:blip r:embed="rId1"/>
          <a:stretch/>
        </p:blipFill>
        <p:spPr>
          <a:xfrm>
            <a:off x="257040" y="990720"/>
            <a:ext cx="8629920" cy="48765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539640" y="3284640"/>
            <a:ext cx="7777440" cy="476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482760" y="3933720"/>
            <a:ext cx="2158920" cy="7905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2671920" y="4076640"/>
            <a:ext cx="3195360" cy="476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5"/>
          <a:stretch/>
        </p:blipFill>
        <p:spPr>
          <a:xfrm>
            <a:off x="468360" y="4797360"/>
            <a:ext cx="7704000" cy="476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6"/>
          <a:stretch/>
        </p:blipFill>
        <p:spPr>
          <a:xfrm>
            <a:off x="395280" y="5430960"/>
            <a:ext cx="7704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52232" descr=""/>
          <p:cNvPicPr/>
          <p:nvPr/>
        </p:nvPicPr>
        <p:blipFill>
          <a:blip r:embed="rId1"/>
          <a:stretch/>
        </p:blipFill>
        <p:spPr>
          <a:xfrm>
            <a:off x="243000" y="704880"/>
            <a:ext cx="8658000" cy="56768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2"/>
          <a:stretch/>
        </p:blipFill>
        <p:spPr>
          <a:xfrm>
            <a:off x="539640" y="5300640"/>
            <a:ext cx="8353440" cy="476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3"/>
          <a:stretch/>
        </p:blipFill>
        <p:spPr>
          <a:xfrm>
            <a:off x="324000" y="5877000"/>
            <a:ext cx="83534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10:13:02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